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DF49-47AE-4DFC-A9AD-F3CFC0ABB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7078-CC1D-4F00-BB5A-DA2A2A7F3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1503-5A41-4DD4-8114-85FBF62241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301B-6C10-417A-84F2-B2C162B2B4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2B78-43DB-49BE-BAFB-07D2D43B4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9459-4401-4823-912A-B3028730F2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77EF-1943-41A1-A900-9E199A3D43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993F-D761-48C1-BF0F-B5CB2BB8B6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3739-6C8B-47F1-A304-4ACB559716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8AA0-4BC3-4150-8C23-41BC02957A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AE11-91A1-4B87-BA78-DC8107F9AF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FA33-B01E-4A4E-B36E-D56334B310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513F-7571-49EC-AEC5-504CDAC7F6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4D66-356F-4B39-B1E7-CDD5FB4410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C120-0F7D-40BC-AA73-B090CA3C5FD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99680" y="2500200"/>
            <a:ext cx="83581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AIM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-ecological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nsification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awi through action research with smallholder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285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680" y="2071440"/>
            <a:ext cx="79293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gis Chikowo, Robby Richardson &amp; Sieg Snapp -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M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zi Mhango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– LUANAR Agr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anny Chigwa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 –LUANR Animal Science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gness Mangwela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–LUANAR Nutrition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saac Nyoka &amp;  Aston Mulwafu &amp; Sileshi W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–IC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ta Lulseged &amp; Rowland Chirwa–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C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wen Kumwenda &amp; Anilly Msukwa –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DA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W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.. and graduate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285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214200" y="1928880"/>
            <a:ext cx="85010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biophysical and socio-economic constraints to increased quality, quantity and diversity of crop and livestock products, especially for women farmers? (R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ffective are the different technological options under different biophysical and socioeconomic conditions in enhancing food security, nutrition and ecosystem stability? (R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285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214200" y="1928880"/>
            <a:ext cx="85010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determinants of farmer participation in field-based learning platforms and subsequent influence on their use of soil fertility and livestock production intensification technologies? (RO2/R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ood processing and utilization technology options that could be suitable for adoption by the targeted households to improve human nutrition? (RO2 and R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ork pack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214200" y="2071800"/>
            <a:ext cx="85010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0: Project coordin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SU+I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1: Participatory action research and on-farm experimen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SU + LUANAR+ CI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2: Integration of climbing be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CIAT+MSU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3 Livestock intensifi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LUANAR and ICRA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4: Nutritional status improvement and diversification: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LUANAR Human Nutrition Department and DAES Nutrition Department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P5 Dissemination, impact and networ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MSU + IFPRI+ DA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2580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ield surve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articipatory on-farm experi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flection worksho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ystems model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ethodolog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liverables (outputs - outcomes-impac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214200" y="2071800"/>
            <a:ext cx="85010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and decision making capacity of women in technology development, evaluation and application incr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il degradation reduced and soil fertility improv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for development platforms strengthened and functional at district level (to drive the sustainable intensification agen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ecurity, nutrition, and ecosystem stability in smallholder farming systems enhanc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dicator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&gt;900 farmers using SI technologies, crop yields increase by &gt;15%,  milk yields increase by 2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28800" y="31428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Regis</cp:lastModifiedBy>
  <cp:lastPrinted>2011-10-06T11:45:23Z</cp:lastPrinted>
  <dcterms:modified xsi:type="dcterms:W3CDTF">2013-09-05T12:57:58Z</dcterms:modified>
  <cp:revision>81</cp:revision>
  <dc:subject/>
  <dc:title>Slide 1</dc:title>
</cp:coreProperties>
</file>